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A79A-2B6F-4B96-B029-7EA709A70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7BEE-1DEB-4C7F-94E3-86F4E0DB0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706D-D2C7-4CFD-A6FA-00DB47E22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84AF-7EB4-4CFC-98E8-5FF99972F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EF4E-08E4-4EAB-9001-9600BB1EC9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B969-DC43-452D-BF52-D685DAFD9C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5FC6-F07A-4BF7-BAAB-ED7B543960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DA1E-639C-45E0-98AF-0D3082EE05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0971C-0CC3-4523-9A8C-B473170376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641E-EFD4-4C2B-B295-F0F9E8705C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D30A-74DC-4977-A1F6-AA2A5874BD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C95C-F4E1-49B2-A1F1-6491C3F1E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C447-F873-44BA-B785-0567F63458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BEFD-4A3A-48F0-8156-3E4B340FEA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E417-C0C6-48E3-8ABC-D4534BE1BD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B333-4B92-460F-98AB-F5A9866B91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573C-B767-4DFC-9AF0-C45DFB6329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FE559-AC59-42DC-849A-68F3009E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06E85-FCD3-42DE-A206-7712C087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7942F-5101-4268-A8D0-CF5575E9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F1999-1A7F-4BB0-BB52-1A528392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79E55-C7CF-4F04-954B-D99C66E8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3DDF-0436-4BA2-8082-48152F91E7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4451F-F9C6-4DBF-BB30-CD6B410E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BAEC8-909D-429A-A43E-646DF1B0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75C32-BEA3-4832-B587-B949DED3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2EC25-9184-4564-A11B-CE4CEBA4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D89E1-5837-4B56-9088-35BF3EF1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A2FA7-2281-42E8-9B17-5C9F1612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DFD12-3E2D-4EDA-90F2-288E7787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C662-A95A-414F-9841-47757C9468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9094-2244-4969-B333-7C9E72E51E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CBAE-21F0-422F-88C1-8402786E2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ABD1-ACE8-4387-983A-143DE4F994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00F6-2509-4D14-89E9-D855E310A7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AD94-BE25-47A6-803C-5F2F2E7237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6B6A-264B-40FB-85CC-64B4EB6BAC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D1CD-732A-401D-9951-8BAA2B123D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E25A-9F80-4DAB-B4A3-3BC2CCEB0B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A3A4-F077-4374-AEF3-A43A054D63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8342-2754-4A87-815E-101D526FE2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DD03-55D1-4F02-AFCE-EAEB0C492E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2790-9977-4999-B33B-CBFAC2E70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94A9-AE9A-47F5-8C50-9D3ADDE77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5858-18E3-4902-89C7-4DC885133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3973-3DBF-40D9-9BB8-63BA410C9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3EA3-2DAC-4117-9640-1C0C47F65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B521-382F-4A3F-90A1-213B81382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F5B1-0ECA-4D9A-A468-7F124413BF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" name="Picture 6" descr=""/>
          <p:cNvPicPr/>
          <p:nvPr/>
        </p:nvPicPr>
        <p:blipFill>
          <a:blip r:embed="rId2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29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EI_Logo.tif"/>
          <p:cNvPicPr/>
          <p:nvPr/>
        </p:nvPicPr>
        <p:blipFill>
          <a:blip r:embed="rId2"/>
          <a:stretch/>
        </p:blipFill>
        <p:spPr>
          <a:xfrm>
            <a:off x="3753000" y="241200"/>
            <a:ext cx="3333600" cy="54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"/>
          <p:cNvPicPr/>
          <p:nvPr/>
        </p:nvPicPr>
        <p:blipFill>
          <a:blip r:embed="rId3"/>
          <a:stretch/>
        </p:blipFill>
        <p:spPr>
          <a:xfrm>
            <a:off x="2533680" y="157320"/>
            <a:ext cx="1033560" cy="71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65E8-D23C-47DD-8880-D5761B0F9F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9" descr=""/>
          <p:cNvPicPr/>
          <p:nvPr/>
        </p:nvPicPr>
        <p:blipFill>
          <a:blip r:embed="rId4"/>
          <a:stretch/>
        </p:blipFill>
        <p:spPr>
          <a:xfrm>
            <a:off x="2104920" y="128520"/>
            <a:ext cx="1033560" cy="71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EI_Logo.tif"/>
          <p:cNvPicPr/>
          <p:nvPr/>
        </p:nvPicPr>
        <p:blipFill>
          <a:blip r:embed="rId5"/>
          <a:stretch/>
        </p:blipFill>
        <p:spPr>
          <a:xfrm>
            <a:off x="3753000" y="241200"/>
            <a:ext cx="3333600" cy="546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0B01-4F50-4A0B-B8F9-C469EE1F8E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Num" idx="6"/>
          </p:nvPr>
        </p:nvSpPr>
        <p:spPr>
          <a:xfrm>
            <a:off x="7200720" y="6310080"/>
            <a:ext cx="1904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6880" y="1476000"/>
            <a:ext cx="7686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DAC Long-Term Archive Develop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440" y="2952720"/>
            <a:ext cx="75438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bert R. D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cioeconomic Data and Applications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er for International Earth Science Information Network (CIESI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arth Institute, Columbia Universi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ared for presentation to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 ESIP Federation Winter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hington, D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5-7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EI_Logo.tif"/>
          <p:cNvPicPr/>
          <p:nvPr/>
        </p:nvPicPr>
        <p:blipFill>
          <a:blip r:embed="rId1"/>
          <a:stretch/>
        </p:blipFill>
        <p:spPr>
          <a:xfrm>
            <a:off x="3753000" y="241200"/>
            <a:ext cx="3333600" cy="54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9" descr=""/>
          <p:cNvPicPr/>
          <p:nvPr/>
        </p:nvPicPr>
        <p:blipFill>
          <a:blip r:embed="rId2"/>
          <a:stretch/>
        </p:blipFill>
        <p:spPr>
          <a:xfrm>
            <a:off x="2104920" y="128520"/>
            <a:ext cx="1033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DAC Active Archive and Long-Term Archive: Data Organ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901800" y="1308240"/>
            <a:ext cx="727704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SEDAC Collections in Digital Data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680000" y="1935000"/>
            <a:ext cx="2938320" cy="15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EDAC Long-Term Archive Data and Information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4400640" y="30733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461960" y="3502080"/>
            <a:ext cx="153828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Public Access to Data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000240" y="3502080"/>
            <a:ext cx="140040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Restricted Access to Data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680000" y="3502080"/>
            <a:ext cx="153972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Public Access to Data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219720" y="3502080"/>
            <a:ext cx="139860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Restricted Access to Data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461960" y="1935000"/>
            <a:ext cx="2938680" cy="15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EDAC Active Archive Data and Information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12800" y="5129280"/>
            <a:ext cx="768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tive Arch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for near-term dissemination with high levels of service. Primary users are discipline-specific scient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ng-Term Arch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for the 50 – 100 year preservation time-frame with different expectations for levels of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inuing Self-Assessment of LT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ng an initial self-assessment of the LTA using the Trustworthy Repositories Audit and Certification: Criteria and Checklist (OCLC &amp; RLG, 200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ing the Draft Recommended Standard for Audit and Certification of Trustworthy Digital Repositories (July 2009 Red Book, CCSDS) for use as a self-assessment instr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6D19-A0E7-4E9E-9CD4-CD049DF6E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95440" y="248760"/>
            <a:ext cx="62150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DAC Long-Term 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ssion Stat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18124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DAC Long-Term Archive acquires, preserves, and maintains the content of selected high-quality data, data products, documentation, and services relevant to human dimensions of global change in a digital form to support the discovery, access, and use of archived resources by scientific, educational, and decision-making communities for at least the next 5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8537-1228-42A0-AC82-948786B25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52680" y="237960"/>
            <a:ext cx="5829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the LTA to Meet OAIS Requirement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880" y="1285560"/>
            <a:ext cx="83059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1 Negotiate for and accept appropriate information from Produc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TA SIP preparation includes review of AIP for completen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2 Obtain sufficient control for Long-Term Preserv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TA appraisal criteria includes review for legality and confidenti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3 Determine the Designated Commun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TA appraisal criteria includes identification of potential usability and use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4 Ensure information is understandable to Designated Commun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TA appraisal criteria includes ensuring that the data is documented for accessibi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5 Follow documented preservation policies and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LTA policies and procedures are being reviewed by the LTA Bo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S 3.2.6 Make the preserved information available to Designated Commun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TA Board designates the dissemination level to be assigned to data when approved for acc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ucting a self-assessment of the LTA as a trustworthy digital reposi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the Trustworthy Repositories Audit and Certification: Criteria and Checklist (OCLC &amp; RLG, 200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57080" y="314280"/>
            <a:ext cx="6143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TA Governance and Manag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9068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A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s the Selection Criteria for Submission of SEDAC Data to the 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s the submission of recommended data or information resources that meet the LTA selection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A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rts to the LTA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ible for development and operations of LTA systems, staff and procedures, to ensure the stewardship of LTA ho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A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rt to the LTA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ion and maintain LTA holdings in accordance with LTA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DAC Engineering staff support infrastructure development and 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apted from SEDAC Long-Term Archive Implementation Plan (Draft revised 200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6400" y="151920"/>
            <a:ext cx="7105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gency Plan: SEDAC Long-Term Arch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vernance and Managemen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609480" y="1695600"/>
            <a:ext cx="784872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LTA Board members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presented by the SEDAC Project Scientist, the SEDAC Systems Engineer, and the SEDAC LTA Mana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presentatives designated by the Earth Institut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presentatives designated by the Columbia University Libr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event of a lapse in SEDAC fun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braries will replace chair and one of the SEDA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IESIN will name the other SEDAC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&gt; Columbia University Libraries will have majority of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lumbia University will appoint the Long-Term Archive Manager and other staff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apted from SEDAC Long-Term Archive Implementation Plan (Draft revised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480" y="151920"/>
            <a:ext cx="70200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lection Criteria for LTA Data Appraisa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42880" y="1149120"/>
            <a:ext cx="767088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ientific or Historical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tation, research, and educational use as published in refereed scientific publications/reports from recognized committee of scientis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tential Usability and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idence of usability, usefulness, and sufficient usage by the community interested in human dimensions of the environment. Adequate evidence indicate potential for future use justifies costs of long-term arch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queness of 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non-redundant stewards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being preserved in any form in another archive and is at risk of loss if not accessioned into the Long-Term Arch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vance to LTA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ly endorsed or approved by community interested in human interactions in the environment. For the short-term, relevance includes content germane to SEDAC mission and SEDAC strategic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ed for Access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eness and correctness of documentation to facilitate future discovery, access,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chnological Accessi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feasi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in format meeting technical criteria for the Service Level designated for the 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gality and Confidenti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restricted permissions for preservation and future dissemination. No information that is confidential or prohibited from dissemin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-Replic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replication not feasible, excessively costly or prohib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TA Levels of Service for Preservation of SEDAC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rve Content in Original Forma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 is maintained in Original Formats on accessible system for the specified retention peri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rve and Maintain Content in Supported Forma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 received in Supported Formats is maintained on accessible system and is migrated to current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ed Forma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CII Text (txt, xml, ht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 Separated Values (cs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Files (png, jpg, tif, g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able Document Format (p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TA Levels of Service for Dissemination of SEDAC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7600" y="1176120"/>
            <a:ext cx="8391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tricted Disseminatio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resource and its Dissemination Information Package (DIP) are not accessible by the publi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scovery metadata for the resource is included in the LTA restricted access catalo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 to the restricted resource is granted in compliance with the restrictions specified for the re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mited user support is provided for a restricted resource that is authored by SEDAC in compliance with the restrictions specified for the re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use of restricted resources and services is evaluated and repor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Disseminatio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ssemination Information Package (DIP) for the resource is freely accessible by the public in digital for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scovery metadata for the resource is included in the LTA public access catalo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act information for user support is provided on the LTA public access catalo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s are provided for legitimate requests to correct publicly disseminated documentation or access capabil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swers or referrals are provided for scientific and technical questions about publicly disseminated re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s are described for publicly disseminated resources or serv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use of publicly disseminated resources and services is evaluated and repor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1320" y="152280"/>
            <a:ext cx="700416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eservation and Dissemination Services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DAC Data Approved for Accession to the L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1359000"/>
          <a:ext cx="8153640" cy="5232240"/>
        </p:xfrm>
        <a:graphic>
          <a:graphicData uri="http://schemas.openxmlformats.org/drawingml/2006/table">
            <a:tbl>
              <a:tblPr/>
              <a:tblGrid>
                <a:gridCol w="3733920"/>
                <a:gridCol w="838080"/>
                <a:gridCol w="1866960"/>
                <a:gridCol w="1714680"/>
              </a:tblGrid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et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at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seminat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Treaties and Resource Indicators (ENTRI) - The Update of the Treaty Status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OPH: A Data Base of Salt Tolerant Plants of the Wor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Subset of Collection of Multilateral Conventions at the Fletcher School of Law and Diplom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and Maintain Content in Supported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dom in the World (1995-19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 Resources 1996-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 Resources 1998-99: A Guide to the Global Environment: Environmental Change and Human Health (Data Tab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ded Population of the World (GPW) Vers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and Maintain Content in Supported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ded Population of the World (GPW) Vers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and Maintain Content in Supported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ded Population of the World, Version 2: Ancillary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and Maintain Content in Supported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Model for the Assessment of the Greenhouse Effect (IMAGE) 2.0 and Associated Sce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Content in Original Form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9:01:14Z</dcterms:created>
  <dc:creator>Bob Chen</dc:creator>
  <dc:description/>
  <cp:keywords/>
  <dc:language>en-US</dc:language>
  <cp:lastModifiedBy>Ruth Duerr</cp:lastModifiedBy>
  <cp:lastPrinted>2002-01-07T14:25:07Z</cp:lastPrinted>
  <dcterms:modified xsi:type="dcterms:W3CDTF">2010-01-11T19:09:16Z</dcterms:modified>
  <cp:revision>1589</cp:revision>
  <dc:subject/>
  <dc:title>SEDAC</dc:title>
</cp:coreProperties>
</file>